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ED4B-82A0-4273-9EAC-8E1C64917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CAED-9EE9-4D37-8644-9AA78765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89B1-5574-4F6D-8C7F-4B9770CF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1688-3F72-4E9D-8B0E-6FE8213D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ADE0-3CDF-4F08-B6A0-0450EBD6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F8C6-E92D-48D7-9160-711D1BB2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CC56-2A54-4698-B0FE-09525CE2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B764-8548-4386-A1D4-DA6F8C05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69BD-64DC-4A9F-9A2A-B7A14F6F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E67F-7FFC-41C6-8571-7AD080C2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7817-F871-4658-A792-5032BFDB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195E-502D-4DC9-A8DE-104103E0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9105-BEBE-4560-82A1-9E22BECC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370E-9E9E-4F75-AA1E-226F4E57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9746-6C7A-4642-AA12-B8E9FB93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6039-C08C-4EA3-B348-F18E4A0D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5D50-6823-4005-8F6B-A8E16353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D046-71F0-4045-93B8-4041D710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B3DB-B42F-4A7B-A59E-6A809E06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4B9F-9942-45A2-9125-37B070DF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18AB-E4E1-476D-9E02-87622883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A786-DFAF-47A0-98DE-D356583D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06CA-2050-4A60-84D2-212CBF90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AA47-6BA8-4831-A54D-00A140C8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B736-906A-4562-A412-9D1A831F25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B82B-E205-4EA0-ABBA-88516E9063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Техника безопасности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073160"/>
            <a:ext cx="8121600" cy="56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автоматизированного формирования документации, отражающей вопросы техники безопасности и охраны труда. Программный модуль состоит из следующих пяти разделов.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Задачи техники безопасности, решаемые на стадии ПОС; в разделе помещены материалы, освещающие общие вопросы обеспечения безопасности труда, требования безопасности при эксплуатации машин, механизмов, инструмента и т.д., всего 7 задач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Задачи техники безопасности, решаемые на стадии ППР; в разделе помещены требования безопасности при производстве отдельных строительно-монтажных работ, всего 20 задач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Задачи техники безопасности, решаемые при разработке ППРк; содержит общие требования безопасности при эксплуатации грузоподъемных механизмов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Отраслевые типовые инструкции по охране труда; в разделе помещены инструкции по основным строительным специальностям, всего 64 инструкции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Гигиенические требования; в разделе помещены требования к организации рабочих мест в разных условиях производства СМР, гигиенические требования к оборудованию и механизмам, гигиенические требования к выполнению отдельных строительно-монтажных работ, организации рабочих мест и т.п.; всего 36 задач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Модуль предоставляет пользователю возможность отобрать, скомпоновать, нужным образом отредактировать отобранный материал и  оформить его в виде необходимого документа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Предоставляемые материалы основаны на актуальных требованиях нормативно-правового регулирования при проектировании, строительстве и реконструкции объектов капитального строительства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26248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тметить требуемые типовые разделы и включить их в разрабатываемый выходной документ.  В иерархическом списке разделов выходного документа имеется возможность создания новых разделов и правки существующи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84080" y="1192320"/>
            <a:ext cx="7981920" cy="39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оррекция раздела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9040" y="39798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авки раздела выходного документа нужно задать его новое наименование и, при необходимости, изменить вышестоящий разде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068480" y="1793880"/>
            <a:ext cx="6946920" cy="20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охранение выходного документ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48052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работанный выходной документ можно сохранить для дальнейшей работы, предварительно задав его наимен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500120" y="1484280"/>
            <a:ext cx="609624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16040" y="442440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й требуемой информации можно сформировать и открыть в текстовом редакторе документацию, отражающую вопросы техники безопасности и охраны труда. С помощью соответствующих флажков в окне настроек печати выходного документа можно указать дополнительные требования к формированию от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298520" y="1374840"/>
            <a:ext cx="6748560" cy="2908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04-13T14:39:42Z</dcterms:modified>
  <cp:revision>252</cp:revision>
  <dc:subject/>
  <dc:title>Слайд 1</dc:title>
</cp:coreProperties>
</file>